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480" y="-24120"/>
            <a:ext cx="7770960" cy="68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-24120"/>
            <a:ext cx="7770960" cy="68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oundRect">
              <a:avLst>
                <a:gd name="adj" fmla="val 104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4520"/>
                <a:ext cx="1787400" cy="1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512640" y="1415880"/>
                <a:ext cx="193680" cy="193680"/>
                <a:chOff x="512640" y="1415880"/>
                <a:chExt cx="193680" cy="1936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12640" y="1415880"/>
                  <a:ext cx="193680" cy="193680"/>
                </a:xfrm>
                <a:prstGeom prst="roundRect">
                  <a:avLst>
                    <a:gd name="adj" fmla="val 81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12640" y="1415880"/>
                  <a:ext cx="193680" cy="193680"/>
                </a:xfrm>
                <a:custGeom>
                  <a:avLst/>
                  <a:gdLst/>
                  <a:ahLst/>
                  <a:rect l="l" t="t" r="r" b="b"/>
                  <a:pathLst>
                    <a:path w="537" h="537">
                      <a:moveTo>
                        <a:pt x="276" y="0"/>
                      </a:moveTo>
                      <a:lnTo>
                        <a:pt x="263" y="0"/>
                      </a:lnTo>
                      <a:lnTo>
                        <a:pt x="250" y="1"/>
                      </a:lnTo>
                      <a:lnTo>
                        <a:pt x="236" y="2"/>
                      </a:lnTo>
                      <a:lnTo>
                        <a:pt x="223" y="4"/>
                      </a:lnTo>
                      <a:lnTo>
                        <a:pt x="210" y="6"/>
                      </a:lnTo>
                      <a:lnTo>
                        <a:pt x="197" y="10"/>
                      </a:lnTo>
                      <a:lnTo>
                        <a:pt x="185" y="13"/>
                      </a:lnTo>
                      <a:lnTo>
                        <a:pt x="172" y="18"/>
                      </a:lnTo>
                      <a:lnTo>
                        <a:pt x="160" y="23"/>
                      </a:lnTo>
                      <a:lnTo>
                        <a:pt x="148" y="29"/>
                      </a:lnTo>
                      <a:lnTo>
                        <a:pt x="136" y="35"/>
                      </a:lnTo>
                      <a:lnTo>
                        <a:pt x="125" y="42"/>
                      </a:lnTo>
                      <a:lnTo>
                        <a:pt x="114" y="49"/>
                      </a:lnTo>
                      <a:lnTo>
                        <a:pt x="103" y="57"/>
                      </a:lnTo>
                      <a:lnTo>
                        <a:pt x="93" y="65"/>
                      </a:lnTo>
                      <a:lnTo>
                        <a:pt x="83" y="74"/>
                      </a:lnTo>
                      <a:lnTo>
                        <a:pt x="73" y="84"/>
                      </a:lnTo>
                      <a:lnTo>
                        <a:pt x="64" y="94"/>
                      </a:lnTo>
                      <a:lnTo>
                        <a:pt x="56" y="104"/>
                      </a:lnTo>
                      <a:lnTo>
                        <a:pt x="48" y="115"/>
                      </a:lnTo>
                      <a:lnTo>
                        <a:pt x="41" y="126"/>
                      </a:lnTo>
                      <a:lnTo>
                        <a:pt x="34" y="137"/>
                      </a:lnTo>
                      <a:lnTo>
                        <a:pt x="28" y="149"/>
                      </a:lnTo>
                      <a:lnTo>
                        <a:pt x="22" y="161"/>
                      </a:lnTo>
                      <a:lnTo>
                        <a:pt x="17" y="173"/>
                      </a:lnTo>
                      <a:lnTo>
                        <a:pt x="13" y="186"/>
                      </a:lnTo>
                      <a:lnTo>
                        <a:pt x="9" y="199"/>
                      </a:lnTo>
                      <a:lnTo>
                        <a:pt x="6" y="212"/>
                      </a:lnTo>
                      <a:lnTo>
                        <a:pt x="4" y="225"/>
                      </a:lnTo>
                      <a:lnTo>
                        <a:pt x="2" y="238"/>
                      </a:lnTo>
                      <a:lnTo>
                        <a:pt x="1" y="251"/>
                      </a:lnTo>
                      <a:lnTo>
                        <a:pt x="0" y="264"/>
                      </a:lnTo>
                      <a:lnTo>
                        <a:pt x="0" y="278"/>
                      </a:lnTo>
                      <a:lnTo>
                        <a:pt x="1" y="291"/>
                      </a:lnTo>
                      <a:lnTo>
                        <a:pt x="2" y="304"/>
                      </a:lnTo>
                      <a:lnTo>
                        <a:pt x="5" y="317"/>
                      </a:lnTo>
                      <a:lnTo>
                        <a:pt x="7" y="330"/>
                      </a:lnTo>
                      <a:lnTo>
                        <a:pt x="11" y="343"/>
                      </a:lnTo>
                      <a:lnTo>
                        <a:pt x="15" y="356"/>
                      </a:lnTo>
                      <a:lnTo>
                        <a:pt x="19" y="368"/>
                      </a:lnTo>
                      <a:lnTo>
                        <a:pt x="25" y="380"/>
                      </a:lnTo>
                      <a:lnTo>
                        <a:pt x="31" y="392"/>
                      </a:lnTo>
                      <a:lnTo>
                        <a:pt x="37" y="404"/>
                      </a:lnTo>
                      <a:lnTo>
                        <a:pt x="44" y="415"/>
                      </a:lnTo>
                      <a:lnTo>
                        <a:pt x="52" y="426"/>
                      </a:lnTo>
                      <a:lnTo>
                        <a:pt x="60" y="437"/>
                      </a:lnTo>
                      <a:lnTo>
                        <a:pt x="68" y="447"/>
                      </a:lnTo>
                      <a:lnTo>
                        <a:pt x="77" y="456"/>
                      </a:lnTo>
                      <a:lnTo>
                        <a:pt x="87" y="466"/>
                      </a:lnTo>
                      <a:lnTo>
                        <a:pt x="97" y="474"/>
                      </a:lnTo>
                      <a:lnTo>
                        <a:pt x="108" y="483"/>
                      </a:lnTo>
                      <a:lnTo>
                        <a:pt x="118" y="490"/>
                      </a:lnTo>
                      <a:lnTo>
                        <a:pt x="130" y="497"/>
                      </a:lnTo>
                      <a:lnTo>
                        <a:pt x="141" y="504"/>
                      </a:lnTo>
                      <a:lnTo>
                        <a:pt x="153" y="510"/>
                      </a:lnTo>
                      <a:lnTo>
                        <a:pt x="165" y="515"/>
                      </a:lnTo>
                      <a:lnTo>
                        <a:pt x="178" y="520"/>
                      </a:lnTo>
                      <a:lnTo>
                        <a:pt x="190" y="524"/>
                      </a:lnTo>
                      <a:lnTo>
                        <a:pt x="203" y="528"/>
                      </a:lnTo>
                      <a:lnTo>
                        <a:pt x="216" y="531"/>
                      </a:lnTo>
                      <a:lnTo>
                        <a:pt x="229" y="533"/>
                      </a:lnTo>
                      <a:lnTo>
                        <a:pt x="242" y="535"/>
                      </a:lnTo>
                      <a:lnTo>
                        <a:pt x="255" y="536"/>
                      </a:lnTo>
                      <a:lnTo>
                        <a:pt x="269" y="536"/>
                      </a:lnTo>
                      <a:lnTo>
                        <a:pt x="282" y="536"/>
                      </a:lnTo>
                      <a:lnTo>
                        <a:pt x="295" y="535"/>
                      </a:lnTo>
                      <a:lnTo>
                        <a:pt x="309" y="533"/>
                      </a:lnTo>
                      <a:lnTo>
                        <a:pt x="322" y="531"/>
                      </a:lnTo>
                      <a:lnTo>
                        <a:pt x="335" y="528"/>
                      </a:lnTo>
                      <a:lnTo>
                        <a:pt x="347" y="524"/>
                      </a:lnTo>
                      <a:lnTo>
                        <a:pt x="360" y="520"/>
                      </a:lnTo>
                      <a:lnTo>
                        <a:pt x="372" y="515"/>
                      </a:lnTo>
                      <a:lnTo>
                        <a:pt x="384" y="509"/>
                      </a:lnTo>
                      <a:lnTo>
                        <a:pt x="396" y="503"/>
                      </a:lnTo>
                      <a:lnTo>
                        <a:pt x="408" y="497"/>
                      </a:lnTo>
                      <a:lnTo>
                        <a:pt x="419" y="489"/>
                      </a:lnTo>
                      <a:lnTo>
                        <a:pt x="430" y="482"/>
                      </a:lnTo>
                      <a:lnTo>
                        <a:pt x="440" y="473"/>
                      </a:lnTo>
                      <a:lnTo>
                        <a:pt x="450" y="465"/>
                      </a:lnTo>
                      <a:lnTo>
                        <a:pt x="460" y="455"/>
                      </a:lnTo>
                      <a:lnTo>
                        <a:pt x="469" y="446"/>
                      </a:lnTo>
                      <a:lnTo>
                        <a:pt x="477" y="435"/>
                      </a:lnTo>
                      <a:lnTo>
                        <a:pt x="485" y="425"/>
                      </a:lnTo>
                      <a:lnTo>
                        <a:pt x="493" y="414"/>
                      </a:lnTo>
                      <a:lnTo>
                        <a:pt x="500" y="403"/>
                      </a:lnTo>
                      <a:lnTo>
                        <a:pt x="506" y="391"/>
                      </a:lnTo>
                      <a:lnTo>
                        <a:pt x="512" y="379"/>
                      </a:lnTo>
                      <a:lnTo>
                        <a:pt x="517" y="367"/>
                      </a:lnTo>
                      <a:lnTo>
                        <a:pt x="522" y="354"/>
                      </a:lnTo>
                      <a:lnTo>
                        <a:pt x="526" y="342"/>
                      </a:lnTo>
                      <a:lnTo>
                        <a:pt x="529" y="329"/>
                      </a:lnTo>
                      <a:lnTo>
                        <a:pt x="532" y="316"/>
                      </a:lnTo>
                      <a:lnTo>
                        <a:pt x="534" y="303"/>
                      </a:lnTo>
                      <a:lnTo>
                        <a:pt x="535" y="289"/>
                      </a:lnTo>
                      <a:lnTo>
                        <a:pt x="536" y="276"/>
                      </a:lnTo>
                    </a:path>
                  </a:pathLst>
                </a:custGeom>
                <a:noFill/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6369480"/>
            <a:ext cx="1905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ED58-A439-40BE-84BD-ED9E9F24A0F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24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oundRect">
                <a:avLst>
                  <a:gd name="adj" fmla="val 1042"/>
                </a:avLst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61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674640" y="1366920"/>
                <a:ext cx="249120" cy="247680"/>
                <a:chOff x="674640" y="1366920"/>
                <a:chExt cx="249120" cy="247680"/>
              </a:xfrm>
            </p:grpSpPr>
            <p:sp>
              <p:nvSpPr>
                <p:cNvPr id="165" name=""/>
                <p:cNvSpPr/>
                <p:nvPr/>
              </p:nvSpPr>
              <p:spPr>
                <a:xfrm rot="16200000">
                  <a:off x="675360" y="1366200"/>
                  <a:ext cx="247680" cy="249120"/>
                </a:xfrm>
                <a:custGeom>
                  <a:avLst/>
                  <a:gdLst>
                    <a:gd name="textAreaLeft" fmla="*/ 360 w 247680"/>
                    <a:gd name="textAreaRight" fmla="*/ 247320 w 247680"/>
                    <a:gd name="textAreaTop" fmla="*/ 360 h 249120"/>
                    <a:gd name="textAreaBottom" fmla="*/ 248760 h 249120"/>
                  </a:gdLst>
                  <a:ahLst/>
                  <a:rect l="textAreaLeft" t="textAreaTop" r="textAreaRight" b="textAreaBottom"/>
                  <a:pathLst>
                    <a:path w="21600" h="21725">
                      <a:moveTo>
                        <a:pt x="138" y="0"/>
                      </a:moveTo>
                      <a:arcTo wR="138" hR="138" stAng="16200000" swAng="-5400000"/>
                      <a:lnTo>
                        <a:pt x="0" y="21587"/>
                      </a:lnTo>
                      <a:arcTo wR="138" hR="138" stAng="10800000" swAng="-5400000"/>
                      <a:lnTo>
                        <a:pt x="21462" y="21725"/>
                      </a:lnTo>
                      <a:arcTo wR="138" hR="138" stAng="5400000" swAng="-5400000"/>
                      <a:lnTo>
                        <a:pt x="21600" y="138"/>
                      </a:lnTo>
                      <a:arcTo wR="138" hR="138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74640" y="1366920"/>
                  <a:ext cx="249120" cy="247680"/>
                </a:xfrm>
                <a:custGeom>
                  <a:avLst/>
                  <a:gdLst/>
                  <a:ahLst/>
                  <a:rect l="l" t="t" r="r" b="b"/>
                  <a:pathLst>
                    <a:path w="693" h="689">
                      <a:moveTo>
                        <a:pt x="0" y="337"/>
                      </a:moveTo>
                      <a:lnTo>
                        <a:pt x="0" y="354"/>
                      </a:lnTo>
                      <a:lnTo>
                        <a:pt x="1" y="372"/>
                      </a:lnTo>
                      <a:lnTo>
                        <a:pt x="3" y="389"/>
                      </a:lnTo>
                      <a:lnTo>
                        <a:pt x="6" y="406"/>
                      </a:lnTo>
                      <a:lnTo>
                        <a:pt x="9" y="423"/>
                      </a:lnTo>
                      <a:lnTo>
                        <a:pt x="14" y="439"/>
                      </a:lnTo>
                      <a:lnTo>
                        <a:pt x="19" y="456"/>
                      </a:lnTo>
                      <a:lnTo>
                        <a:pt x="25" y="472"/>
                      </a:lnTo>
                      <a:lnTo>
                        <a:pt x="32" y="488"/>
                      </a:lnTo>
                      <a:lnTo>
                        <a:pt x="39" y="503"/>
                      </a:lnTo>
                      <a:lnTo>
                        <a:pt x="48" y="518"/>
                      </a:lnTo>
                      <a:lnTo>
                        <a:pt x="57" y="533"/>
                      </a:lnTo>
                      <a:lnTo>
                        <a:pt x="67" y="547"/>
                      </a:lnTo>
                      <a:lnTo>
                        <a:pt x="77" y="561"/>
                      </a:lnTo>
                      <a:lnTo>
                        <a:pt x="89" y="574"/>
                      </a:lnTo>
                      <a:lnTo>
                        <a:pt x="100" y="586"/>
                      </a:lnTo>
                      <a:lnTo>
                        <a:pt x="113" y="598"/>
                      </a:lnTo>
                      <a:lnTo>
                        <a:pt x="126" y="610"/>
                      </a:lnTo>
                      <a:lnTo>
                        <a:pt x="140" y="620"/>
                      </a:lnTo>
                      <a:lnTo>
                        <a:pt x="154" y="630"/>
                      </a:lnTo>
                      <a:lnTo>
                        <a:pt x="169" y="639"/>
                      </a:lnTo>
                      <a:lnTo>
                        <a:pt x="184" y="648"/>
                      </a:lnTo>
                      <a:lnTo>
                        <a:pt x="199" y="656"/>
                      </a:lnTo>
                      <a:lnTo>
                        <a:pt x="215" y="662"/>
                      </a:lnTo>
                      <a:lnTo>
                        <a:pt x="231" y="669"/>
                      </a:lnTo>
                      <a:lnTo>
                        <a:pt x="248" y="674"/>
                      </a:lnTo>
                      <a:lnTo>
                        <a:pt x="265" y="678"/>
                      </a:lnTo>
                      <a:lnTo>
                        <a:pt x="282" y="682"/>
                      </a:lnTo>
                      <a:lnTo>
                        <a:pt x="299" y="685"/>
                      </a:lnTo>
                      <a:lnTo>
                        <a:pt x="316" y="687"/>
                      </a:lnTo>
                      <a:lnTo>
                        <a:pt x="333" y="688"/>
                      </a:lnTo>
                      <a:lnTo>
                        <a:pt x="351" y="688"/>
                      </a:lnTo>
                      <a:lnTo>
                        <a:pt x="368" y="687"/>
                      </a:lnTo>
                      <a:lnTo>
                        <a:pt x="385" y="686"/>
                      </a:lnTo>
                      <a:lnTo>
                        <a:pt x="402" y="683"/>
                      </a:lnTo>
                      <a:lnTo>
                        <a:pt x="419" y="680"/>
                      </a:lnTo>
                      <a:lnTo>
                        <a:pt x="436" y="676"/>
                      </a:lnTo>
                      <a:lnTo>
                        <a:pt x="453" y="671"/>
                      </a:lnTo>
                      <a:lnTo>
                        <a:pt x="469" y="665"/>
                      </a:lnTo>
                      <a:lnTo>
                        <a:pt x="485" y="659"/>
                      </a:lnTo>
                      <a:lnTo>
                        <a:pt x="501" y="652"/>
                      </a:lnTo>
                      <a:lnTo>
                        <a:pt x="516" y="643"/>
                      </a:lnTo>
                      <a:lnTo>
                        <a:pt x="531" y="635"/>
                      </a:lnTo>
                      <a:lnTo>
                        <a:pt x="546" y="625"/>
                      </a:lnTo>
                      <a:lnTo>
                        <a:pt x="559" y="615"/>
                      </a:lnTo>
                      <a:lnTo>
                        <a:pt x="573" y="604"/>
                      </a:lnTo>
                      <a:lnTo>
                        <a:pt x="586" y="592"/>
                      </a:lnTo>
                      <a:lnTo>
                        <a:pt x="598" y="580"/>
                      </a:lnTo>
                      <a:lnTo>
                        <a:pt x="609" y="567"/>
                      </a:lnTo>
                      <a:lnTo>
                        <a:pt x="620" y="554"/>
                      </a:lnTo>
                      <a:lnTo>
                        <a:pt x="631" y="540"/>
                      </a:lnTo>
                      <a:lnTo>
                        <a:pt x="640" y="525"/>
                      </a:lnTo>
                      <a:lnTo>
                        <a:pt x="649" y="510"/>
                      </a:lnTo>
                      <a:lnTo>
                        <a:pt x="657" y="495"/>
                      </a:lnTo>
                      <a:lnTo>
                        <a:pt x="664" y="479"/>
                      </a:lnTo>
                      <a:lnTo>
                        <a:pt x="670" y="463"/>
                      </a:lnTo>
                      <a:lnTo>
                        <a:pt x="676" y="447"/>
                      </a:lnTo>
                      <a:lnTo>
                        <a:pt x="681" y="430"/>
                      </a:lnTo>
                      <a:lnTo>
                        <a:pt x="685" y="414"/>
                      </a:lnTo>
                      <a:lnTo>
                        <a:pt x="688" y="397"/>
                      </a:lnTo>
                      <a:lnTo>
                        <a:pt x="690" y="380"/>
                      </a:lnTo>
                      <a:lnTo>
                        <a:pt x="692" y="362"/>
                      </a:lnTo>
                      <a:lnTo>
                        <a:pt x="692" y="345"/>
                      </a:lnTo>
                      <a:lnTo>
                        <a:pt x="692" y="328"/>
                      </a:lnTo>
                      <a:lnTo>
                        <a:pt x="690" y="311"/>
                      </a:lnTo>
                      <a:lnTo>
                        <a:pt x="688" y="294"/>
                      </a:lnTo>
                      <a:lnTo>
                        <a:pt x="685" y="277"/>
                      </a:lnTo>
                      <a:lnTo>
                        <a:pt x="681" y="260"/>
                      </a:lnTo>
                      <a:lnTo>
                        <a:pt x="677" y="243"/>
                      </a:lnTo>
                      <a:lnTo>
                        <a:pt x="671" y="227"/>
                      </a:lnTo>
                      <a:lnTo>
                        <a:pt x="665" y="211"/>
                      </a:lnTo>
                      <a:lnTo>
                        <a:pt x="658" y="195"/>
                      </a:lnTo>
                      <a:lnTo>
                        <a:pt x="650" y="180"/>
                      </a:lnTo>
                      <a:lnTo>
                        <a:pt x="641" y="165"/>
                      </a:lnTo>
                      <a:lnTo>
                        <a:pt x="632" y="150"/>
                      </a:lnTo>
                      <a:lnTo>
                        <a:pt x="622" y="136"/>
                      </a:lnTo>
                      <a:lnTo>
                        <a:pt x="611" y="123"/>
                      </a:lnTo>
                      <a:lnTo>
                        <a:pt x="600" y="110"/>
                      </a:lnTo>
                      <a:lnTo>
                        <a:pt x="587" y="98"/>
                      </a:lnTo>
                      <a:lnTo>
                        <a:pt x="575" y="86"/>
                      </a:lnTo>
                      <a:lnTo>
                        <a:pt x="561" y="75"/>
                      </a:lnTo>
                      <a:lnTo>
                        <a:pt x="548" y="64"/>
                      </a:lnTo>
                      <a:lnTo>
                        <a:pt x="533" y="55"/>
                      </a:lnTo>
                      <a:lnTo>
                        <a:pt x="518" y="46"/>
                      </a:lnTo>
                      <a:lnTo>
                        <a:pt x="503" y="38"/>
                      </a:lnTo>
                      <a:lnTo>
                        <a:pt x="487" y="30"/>
                      </a:lnTo>
                      <a:lnTo>
                        <a:pt x="471" y="23"/>
                      </a:lnTo>
                      <a:lnTo>
                        <a:pt x="455" y="18"/>
                      </a:lnTo>
                      <a:lnTo>
                        <a:pt x="439" y="13"/>
                      </a:lnTo>
                      <a:lnTo>
                        <a:pt x="422" y="8"/>
                      </a:lnTo>
                      <a:lnTo>
                        <a:pt x="405" y="5"/>
                      </a:lnTo>
                      <a:lnTo>
                        <a:pt x="388" y="2"/>
                      </a:lnTo>
                      <a:lnTo>
                        <a:pt x="370" y="1"/>
                      </a:lnTo>
                      <a:lnTo>
                        <a:pt x="353" y="0"/>
                      </a:lnTo>
                    </a:path>
                  </a:pathLst>
                </a:custGeom>
                <a:noFill/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7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8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8089920" y="5313240"/>
                <a:ext cx="252360" cy="247680"/>
                <a:chOff x="8089920" y="5313240"/>
                <a:chExt cx="252360" cy="247680"/>
              </a:xfrm>
            </p:grpSpPr>
            <p:sp>
              <p:nvSpPr>
                <p:cNvPr id="171" name=""/>
                <p:cNvSpPr/>
                <p:nvPr/>
              </p:nvSpPr>
              <p:spPr>
                <a:xfrm rot="5400000">
                  <a:off x="8093880" y="5312520"/>
                  <a:ext cx="247680" cy="249120"/>
                </a:xfrm>
                <a:custGeom>
                  <a:avLst/>
                  <a:gdLst>
                    <a:gd name="textAreaLeft" fmla="*/ 360 w 247680"/>
                    <a:gd name="textAreaRight" fmla="*/ 247320 w 247680"/>
                    <a:gd name="textAreaTop" fmla="*/ 360 h 249120"/>
                    <a:gd name="textAreaBottom" fmla="*/ 248760 h 249120"/>
                  </a:gdLst>
                  <a:ahLst/>
                  <a:rect l="textAreaLeft" t="textAreaTop" r="textAreaRight" b="textAreaBottom"/>
                  <a:pathLst>
                    <a:path w="21600" h="21725">
                      <a:moveTo>
                        <a:pt x="138" y="0"/>
                      </a:moveTo>
                      <a:arcTo wR="138" hR="138" stAng="16200000" swAng="-5400000"/>
                      <a:lnTo>
                        <a:pt x="0" y="21587"/>
                      </a:lnTo>
                      <a:arcTo wR="138" hR="138" stAng="10800000" swAng="-5400000"/>
                      <a:lnTo>
                        <a:pt x="21462" y="21725"/>
                      </a:lnTo>
                      <a:arcTo wR="138" hR="138" stAng="5400000" swAng="-5400000"/>
                      <a:lnTo>
                        <a:pt x="21600" y="138"/>
                      </a:lnTo>
                      <a:arcTo wR="138" hR="138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089920" y="5313240"/>
                  <a:ext cx="249120" cy="247680"/>
                </a:xfrm>
                <a:custGeom>
                  <a:avLst/>
                  <a:gdLst/>
                  <a:ahLst/>
                  <a:rect l="l" t="t" r="r" b="b"/>
                  <a:pathLst>
                    <a:path w="693" h="689">
                      <a:moveTo>
                        <a:pt x="339" y="0"/>
                      </a:moveTo>
                      <a:lnTo>
                        <a:pt x="322" y="1"/>
                      </a:lnTo>
                      <a:lnTo>
                        <a:pt x="304" y="2"/>
                      </a:lnTo>
                      <a:lnTo>
                        <a:pt x="287" y="5"/>
                      </a:lnTo>
                      <a:lnTo>
                        <a:pt x="270" y="8"/>
                      </a:lnTo>
                      <a:lnTo>
                        <a:pt x="253" y="13"/>
                      </a:lnTo>
                      <a:lnTo>
                        <a:pt x="237" y="18"/>
                      </a:lnTo>
                      <a:lnTo>
                        <a:pt x="221" y="23"/>
                      </a:lnTo>
                      <a:lnTo>
                        <a:pt x="205" y="30"/>
                      </a:lnTo>
                      <a:lnTo>
                        <a:pt x="189" y="38"/>
                      </a:lnTo>
                      <a:lnTo>
                        <a:pt x="174" y="46"/>
                      </a:lnTo>
                      <a:lnTo>
                        <a:pt x="159" y="55"/>
                      </a:lnTo>
                      <a:lnTo>
                        <a:pt x="144" y="64"/>
                      </a:lnTo>
                      <a:lnTo>
                        <a:pt x="131" y="75"/>
                      </a:lnTo>
                      <a:lnTo>
                        <a:pt x="117" y="86"/>
                      </a:lnTo>
                      <a:lnTo>
                        <a:pt x="105" y="98"/>
                      </a:lnTo>
                      <a:lnTo>
                        <a:pt x="92" y="110"/>
                      </a:lnTo>
                      <a:lnTo>
                        <a:pt x="81" y="123"/>
                      </a:lnTo>
                      <a:lnTo>
                        <a:pt x="70" y="136"/>
                      </a:lnTo>
                      <a:lnTo>
                        <a:pt x="60" y="150"/>
                      </a:lnTo>
                      <a:lnTo>
                        <a:pt x="51" y="165"/>
                      </a:lnTo>
                      <a:lnTo>
                        <a:pt x="42" y="180"/>
                      </a:lnTo>
                      <a:lnTo>
                        <a:pt x="34" y="195"/>
                      </a:lnTo>
                      <a:lnTo>
                        <a:pt x="27" y="211"/>
                      </a:lnTo>
                      <a:lnTo>
                        <a:pt x="21" y="227"/>
                      </a:lnTo>
                      <a:lnTo>
                        <a:pt x="15" y="243"/>
                      </a:lnTo>
                      <a:lnTo>
                        <a:pt x="11" y="260"/>
                      </a:lnTo>
                      <a:lnTo>
                        <a:pt x="7" y="277"/>
                      </a:lnTo>
                      <a:lnTo>
                        <a:pt x="4" y="294"/>
                      </a:lnTo>
                      <a:lnTo>
                        <a:pt x="2" y="311"/>
                      </a:lnTo>
                      <a:lnTo>
                        <a:pt x="0" y="328"/>
                      </a:lnTo>
                      <a:lnTo>
                        <a:pt x="0" y="345"/>
                      </a:lnTo>
                      <a:lnTo>
                        <a:pt x="0" y="362"/>
                      </a:lnTo>
                      <a:lnTo>
                        <a:pt x="2" y="380"/>
                      </a:lnTo>
                      <a:lnTo>
                        <a:pt x="4" y="397"/>
                      </a:lnTo>
                      <a:lnTo>
                        <a:pt x="7" y="414"/>
                      </a:lnTo>
                      <a:lnTo>
                        <a:pt x="11" y="430"/>
                      </a:lnTo>
                      <a:lnTo>
                        <a:pt x="16" y="447"/>
                      </a:lnTo>
                      <a:lnTo>
                        <a:pt x="22" y="463"/>
                      </a:lnTo>
                      <a:lnTo>
                        <a:pt x="28" y="479"/>
                      </a:lnTo>
                      <a:lnTo>
                        <a:pt x="35" y="495"/>
                      </a:lnTo>
                      <a:lnTo>
                        <a:pt x="43" y="510"/>
                      </a:lnTo>
                      <a:lnTo>
                        <a:pt x="52" y="525"/>
                      </a:lnTo>
                      <a:lnTo>
                        <a:pt x="61" y="540"/>
                      </a:lnTo>
                      <a:lnTo>
                        <a:pt x="72" y="554"/>
                      </a:lnTo>
                      <a:lnTo>
                        <a:pt x="83" y="567"/>
                      </a:lnTo>
                      <a:lnTo>
                        <a:pt x="94" y="580"/>
                      </a:lnTo>
                      <a:lnTo>
                        <a:pt x="106" y="592"/>
                      </a:lnTo>
                      <a:lnTo>
                        <a:pt x="119" y="604"/>
                      </a:lnTo>
                      <a:lnTo>
                        <a:pt x="133" y="615"/>
                      </a:lnTo>
                      <a:lnTo>
                        <a:pt x="146" y="625"/>
                      </a:lnTo>
                      <a:lnTo>
                        <a:pt x="161" y="635"/>
                      </a:lnTo>
                      <a:lnTo>
                        <a:pt x="176" y="643"/>
                      </a:lnTo>
                      <a:lnTo>
                        <a:pt x="191" y="652"/>
                      </a:lnTo>
                      <a:lnTo>
                        <a:pt x="207" y="659"/>
                      </a:lnTo>
                      <a:lnTo>
                        <a:pt x="223" y="665"/>
                      </a:lnTo>
                      <a:lnTo>
                        <a:pt x="239" y="671"/>
                      </a:lnTo>
                      <a:lnTo>
                        <a:pt x="256" y="676"/>
                      </a:lnTo>
                      <a:lnTo>
                        <a:pt x="273" y="680"/>
                      </a:lnTo>
                      <a:lnTo>
                        <a:pt x="290" y="683"/>
                      </a:lnTo>
                      <a:lnTo>
                        <a:pt x="307" y="686"/>
                      </a:lnTo>
                      <a:lnTo>
                        <a:pt x="324" y="687"/>
                      </a:lnTo>
                      <a:lnTo>
                        <a:pt x="341" y="688"/>
                      </a:lnTo>
                      <a:lnTo>
                        <a:pt x="359" y="688"/>
                      </a:lnTo>
                      <a:lnTo>
                        <a:pt x="376" y="687"/>
                      </a:lnTo>
                      <a:lnTo>
                        <a:pt x="393" y="685"/>
                      </a:lnTo>
                      <a:lnTo>
                        <a:pt x="410" y="682"/>
                      </a:lnTo>
                      <a:lnTo>
                        <a:pt x="427" y="678"/>
                      </a:lnTo>
                      <a:lnTo>
                        <a:pt x="444" y="674"/>
                      </a:lnTo>
                      <a:lnTo>
                        <a:pt x="461" y="669"/>
                      </a:lnTo>
                      <a:lnTo>
                        <a:pt x="477" y="662"/>
                      </a:lnTo>
                      <a:lnTo>
                        <a:pt x="493" y="656"/>
                      </a:lnTo>
                      <a:lnTo>
                        <a:pt x="508" y="648"/>
                      </a:lnTo>
                      <a:lnTo>
                        <a:pt x="523" y="639"/>
                      </a:lnTo>
                      <a:lnTo>
                        <a:pt x="538" y="630"/>
                      </a:lnTo>
                      <a:lnTo>
                        <a:pt x="552" y="620"/>
                      </a:lnTo>
                      <a:lnTo>
                        <a:pt x="566" y="610"/>
                      </a:lnTo>
                      <a:lnTo>
                        <a:pt x="579" y="598"/>
                      </a:lnTo>
                      <a:lnTo>
                        <a:pt x="592" y="586"/>
                      </a:lnTo>
                      <a:lnTo>
                        <a:pt x="603" y="574"/>
                      </a:lnTo>
                      <a:lnTo>
                        <a:pt x="615" y="561"/>
                      </a:lnTo>
                      <a:lnTo>
                        <a:pt x="625" y="547"/>
                      </a:lnTo>
                      <a:lnTo>
                        <a:pt x="635" y="533"/>
                      </a:lnTo>
                      <a:lnTo>
                        <a:pt x="644" y="518"/>
                      </a:lnTo>
                      <a:lnTo>
                        <a:pt x="653" y="503"/>
                      </a:lnTo>
                      <a:lnTo>
                        <a:pt x="660" y="488"/>
                      </a:lnTo>
                      <a:lnTo>
                        <a:pt x="667" y="472"/>
                      </a:lnTo>
                      <a:lnTo>
                        <a:pt x="673" y="456"/>
                      </a:lnTo>
                      <a:lnTo>
                        <a:pt x="678" y="439"/>
                      </a:lnTo>
                      <a:lnTo>
                        <a:pt x="683" y="423"/>
                      </a:lnTo>
                      <a:lnTo>
                        <a:pt x="686" y="406"/>
                      </a:lnTo>
                      <a:lnTo>
                        <a:pt x="689" y="389"/>
                      </a:lnTo>
                      <a:lnTo>
                        <a:pt x="691" y="372"/>
                      </a:lnTo>
                      <a:lnTo>
                        <a:pt x="692" y="354"/>
                      </a:lnTo>
                      <a:lnTo>
                        <a:pt x="692" y="337"/>
                      </a:lnTo>
                    </a:path>
                  </a:pathLst>
                </a:custGeom>
                <a:noFill/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369480"/>
            <a:ext cx="1905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6B67-A08F-463D-AE77-54DEF22851C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1423800"/>
            <a:ext cx="77706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74268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rchitectural Blueprints – Views of Software Architecture and Yo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  <a:ea typeface="msgothic"/>
              </a:rPr>
              <a:t>Presented by Chris Menni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900600" y="4343400"/>
            <a:ext cx="1341360" cy="9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-23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Logical 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odel function described with state or activity diagrams (ie: internal behaviou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Verification/validation and description done with sequence/collaboration diagra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40458c"/>
                </a:solidFill>
                <a:uFillTx/>
                <a:latin typeface="Tahoma"/>
              </a:rPr>
              <a:t>Not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meant for your architecture diagrams in this cla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Development 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SzPct val="12955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Focuses on actual software organiz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2955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ainly of interest to cod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2955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ystem is decomposed into components and subcompon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2955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ll interfaces describ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2955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erves as basis for resource estimation and manag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2955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lose to logical view and usually deduced from i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2955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an be abstract or concrete or bot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-23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Development 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Will have many things in common with Logical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ore detailed thoug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ings like workers, locks, protocol translat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-23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Development View from Pap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-23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Development View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689120" y="2130480"/>
            <a:ext cx="5476680" cy="809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587680" y="3457440"/>
            <a:ext cx="4181400" cy="3048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49960" y="1728720"/>
            <a:ext cx="146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7480" y="4368960"/>
            <a:ext cx="1652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wer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-23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Development View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tart with a reasonable amount of detai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Give diagram and descrip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escribe the modules/components and how they relate to each oth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Give enough, but not too much detail (trick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-23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Development View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xpand” components to show more detai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Keep doing this “recursively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eel free to use hybrid sty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ay mix styles depending on level of compon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eel free to invent no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escribe in detail meanings of notation no matter how obviou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rocess 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2955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onsiders non-functional requirem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2955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ainly of interest to designer and integr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2955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ddresses concurrency and distribu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2955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escribes dynamic view of system (processes, threads, etc) and mapping to th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2955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essage flow and process loads can be estimated from this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2955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overs processes, threads, message queues, locks, et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-23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rocess View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-23760"/>
            <a:ext cx="83566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Development and Process View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Need to refer process view back to development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ry to keep labels consistent between these 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40458c"/>
                </a:solidFill>
                <a:uFillTx/>
                <a:latin typeface="Tahoma"/>
              </a:rPr>
              <a:t>I won’t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assume something with the same name in both views is the sa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Be explicit in tying views togeth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ecompose diagrams if necessary, like with development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-23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larify different architectural 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4+1, Hofmeister, et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ome pointers on how to do architectural docu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-23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Interfa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very interface needs to be describ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What constitutes an interface? Every line, to a poi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Both the delivery mechanism and protocols us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e: RPC, method calls, XML over TCP, et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Give the schema, API, et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or protocols, give examples of their typical u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hysical 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nsiders requirements such as reliability, performance, scala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ainly of interest to system desig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etails how processes, threads, objects, etc are mapped to physical resour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losely related and influenced by process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-23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hysical 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7600" indent="-3276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Process view needs to map to physical view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7600" indent="-3276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Only include relevant compon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1360" indent="-27252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t is irrelevant that the “Admin Console” has a keyboard, the architecture isn’t affec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1360" indent="-27252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onversely, a word processor from the 70’s might care about the keyboard connec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7600" indent="-3276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Your physical views won’t be terribly interesting, more for process view m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View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828800" y="1828800"/>
          <a:ext cx="567540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56754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4191120" y="2819520"/>
          <a:ext cx="98892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819520"/>
                    <a:ext cx="9889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4191120" y="4952880"/>
          <a:ext cx="98892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4952880"/>
                    <a:ext cx="9889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971800" y="3733920"/>
          <a:ext cx="515880" cy="74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3733920"/>
                    <a:ext cx="5158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5943600" y="3733920"/>
          <a:ext cx="515880" cy="74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3733920"/>
                    <a:ext cx="5158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+1: Scen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Unifies all views by providing in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imilar to a cross between UML use cases and scenari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n a sense an abstraction of the most important requir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rives discovery of architectural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erves as a validation of archite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-23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cen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cenarios for your logical architecture are in your S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se cases and sequence diagram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Provide scenarios for development view and possibly process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on’t provide new information, just validate and clarify previous 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cenarios and interfaces are important to pulling the overall arch togeth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-23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cen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cenarios could be in the form of sequence diagrams or collaboration diagra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View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828800" y="1828800"/>
          <a:ext cx="567540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56754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ML / Rational’s View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828800" y="1828800"/>
          <a:ext cx="567540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56754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ofmeister </a:t>
            </a:r>
            <a:r>
              <a:rPr b="0" i="1" lang="en-GB" sz="4400" spc="-1" strike="noStrike">
                <a:solidFill>
                  <a:srgbClr val="660066"/>
                </a:solidFill>
                <a:latin typeface="Tahoma"/>
              </a:rPr>
              <a:t>et al.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 View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1920" indent="-6019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Four views from study of large complex industrial syste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78840" indent="-526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de View – Organisation of code into sources, directories, versioning, et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78840" indent="-526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Module View – Decomposition of the system into modules and lay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78840" indent="-526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xecution View – Decompose system into processes and resource utilis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78840" indent="-526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nceptual View – Logical view of system; design elements and relationships among them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bout Krucht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Arial"/>
              </a:rPr>
              <a:t>Doctorate degree in computer science from the French Institute of Telecommunications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irector of Process Development at Rational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Led the development of the Rational Unified Proce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lations Amongst View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523880" y="1676520"/>
          <a:ext cx="5681880" cy="49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5681880" cy="49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Kruchten vs. Hofmeister </a:t>
            </a:r>
            <a:r>
              <a:rPr b="0" i="1" lang="en-GB" sz="4400" spc="-1" strike="noStrike">
                <a:solidFill>
                  <a:srgbClr val="660066"/>
                </a:solidFill>
                <a:latin typeface="Tahoma"/>
              </a:rPr>
              <a:t>et al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nceptual and Logical views very simi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odule and Development views very simi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xecution view similar to Physical view, and some of Process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de view is n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-23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de 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escribe the structure of the c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ile / directory hierarch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lass inheritance diagra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Not detailed class information (member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Relate the code view to development and process 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What class represents what component, or vice-ver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What directory represents a process, etc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-23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de 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Use diagrams, tables, paragraphs, whatever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Be clear in your mapping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-23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Going about i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6f89f7"/>
              </a:buClr>
              <a:buFont typeface="Tahom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Write development view, then process view (and physic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6f89f7"/>
              </a:buClr>
              <a:buFont typeface="Tahom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etail all interfaces and do estima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6f89f7"/>
              </a:buClr>
              <a:buFont typeface="Tahom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Write your c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40458c"/>
                </a:solidFill>
                <a:uFillTx/>
                <a:latin typeface="Tahoma"/>
              </a:rPr>
              <a:t>Don’t integrat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at the last minute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6f89f7"/>
              </a:buClr>
              <a:buFont typeface="Tahom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Write code view, relating it to process and development 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6f89f7"/>
              </a:buClr>
              <a:buFont typeface="Tahom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nsure consistency amongst views (</a:t>
            </a:r>
            <a:r>
              <a:rPr b="0" lang="en-GB" sz="3200" spc="-1" strike="noStrike" u="sng">
                <a:solidFill>
                  <a:srgbClr val="40458c"/>
                </a:solidFill>
                <a:uFillTx/>
                <a:latin typeface="Tahoma"/>
              </a:rPr>
              <a:t>very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important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Build-Time Architecture 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ome systems have interesting build-time behaviou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ifferent from other 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aptures dynamic behaviou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Build scrip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onfiguration choi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odel compilation dependencies or automatic code gene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he Build-Time View of JN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0642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ore than one way to look at software archite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ifferent kinds of archite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Views proposed are reasonable and used in pract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any kinds of views exist and one shouldn’t hesitate to be creative in striving for clar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-23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 guide to architecture documents written for previous ter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ay be helpful for ide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n example architecture document is giv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For ideas only! Don’t follow too closely as it was for a different class, assign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t wouldn’t do that well for this delivera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Not Enough Clar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ssu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One diagram hard to capture everyth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ifferent stakeholders care about different issu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What to d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oluti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40458c"/>
              </a:buClr>
              <a:buSzPct val="4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Look at architecture in different way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View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 view is a different perspective of the whole system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Logical View - (Object) model of the syst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evelopment View - Static organization of the software in develop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Process View – Dynamic view of system (concurrency and synchronizatio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88920" indent="-5317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Physical View – Mapping software to hardwa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View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828800" y="1828800"/>
          <a:ext cx="567540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56754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Logical 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ocuses on functional requir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ainly of interest to end us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ystem decomposed into key abstractions (in form of objects/class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lass diagram shows logical relationships between class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ay also include internal class behaviour descrip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-23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Logical View from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-23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Logical View (as in SR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ookie Moogle</dc:creator>
  <dc:description/>
  <dc:language>en-US</dc:language>
  <cp:lastModifiedBy/>
  <cp:revision>0</cp:revision>
  <dc:subject/>
  <dc:title>Architectural Blueprints – The “4+1” View Model of Software Arc</dc:title>
</cp:coreProperties>
</file>